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8B4-960A-4BF9-B866-4BCE6548BDD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290-DCF8-4869-82F1-70529846E26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932-CA4A-4A82-A690-A95B10A50A2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C15-2CEB-4CF6-BBD3-3BA406CA14F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3EFF-30FF-4302-86CA-BA75FB1F0EB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442F-D3E2-4FB7-9B53-B39B8993EF8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0251-42D6-4464-85C2-8DF1F744F32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D92-266A-4A91-9402-2615CF13FB9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CF1-38A7-4EE1-ABCD-1EF0ED371A2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08D-1154-4646-B85C-DF308EE40B3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AE4-302C-4D51-A2E4-CAEFD4433E5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E49-9F08-4B5E-9DE0-2BD9CA36428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04D4-BF8A-4684-81E4-3F6CDDE8F40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F21-3733-4A57-8D9A-55F93D87F11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93A-792D-41B0-A342-8BC6F5C7C8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CF2-28F8-4D2E-BD63-40FD516A328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E2A-414C-4BED-92D9-8BB98957906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6AD5-B8CF-4C1B-A540-F806FAAA708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2E7-5157-4205-8183-6CB18C965B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129-40B9-4B26-BCA8-D4F723465F1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A991-97AA-4132-9ED4-21615FF2500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98F-BDD4-4DC4-95F3-5641F27CDF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064D-1540-4D40-A252-7828BA426C6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63A-AD72-4CD2-90BD-9FBC0940244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D42-32CC-482E-BB1C-F271904050B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170-247F-431A-ACDC-5C57469C163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A40-E4AA-40C5-A95E-0E4FC2956A6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394-9077-4CE4-B630-5CDC7B5142B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0F4-089A-4B85-A587-3B5FE8BD35E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46B6-F04F-41EC-B18D-D8D0CD833CF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B1F-1477-46C1-8400-304ADDD4D19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B42-5F5D-4303-84AD-88EFEF98236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944-F022-4E03-908C-C94FF2641B8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B135-CBBC-4FD1-9E34-153E046E16F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56ED-5A60-4A0C-86E1-E16BD24E49B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3BE-57C7-47CE-B63A-E341B293F36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008-7911-4996-83F1-48A3102F226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50C4-CB0E-400D-B73D-FFEEFB792C3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F856-9B2B-40DC-ACEB-501748E82BD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C45-B25B-4B81-91ED-2180E3FE5A8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BBED-3E88-4E54-8F1D-19071566BC6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19D-1109-4130-9CB7-6755F94A6F9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874-9CF0-4A17-A213-A51BB5CE90D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2FF5-313F-430E-8D25-F1CCE1BB300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49E-E99C-4E4D-8E41-381AC9BC7B4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4930-4F00-438D-87D6-93A3A1B4E3E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E33-8BCC-412D-A2E1-32A39E3E243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A86-EC1B-4126-BD6B-76763B44888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2F4-DCD0-4C03-AC38-F2DE6EFFC97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7FE5-7824-4407-985E-8C19E63C14A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F94E-6D28-48FF-86E8-B313D3C20E0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5FB2-021C-47D2-9A2F-23A07A56985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B3AB-8916-465C-A783-E191E09A08D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612C-14E1-441D-809B-5BE6A98E421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23A-3B36-46E3-9FD1-7684CAE42B8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3550-55EB-48BC-BBCD-3ADB9297408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7DA-474C-434F-8C71-04E6F1C953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6855-1ADC-445C-83D7-01561BB7156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FD85-A1DE-498A-8516-97C68807132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E710-5844-404E-BEB8-0C964055C5E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D80-1042-4A06-9130-BBBAA8EA1F2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688-75D7-4AF5-90C4-A6EAED1672B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C4C7-2D73-4BF7-93DA-3DCE6B5544D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787-04CD-43B6-883D-8BC38994F4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610-6FD0-422B-9971-B5DCBAF44D8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E320-B24A-42D7-96D4-9ABAA7F78B9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3912-EA88-4801-B92B-095A4972173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9F4-48E6-4EA8-919C-83DD940081F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9540-AF01-43E2-B153-02C6D36ACB6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EA4-EC22-4AFD-89B6-9C7884DA1EA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598-F223-4670-9A82-C472130926F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0CF-237F-4931-9643-F4D613B6BD1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7D6-EAF0-4D79-9A0A-B58E290B534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0D8-02B4-47C1-B557-9075D5785F8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E9F-1F7F-45D3-A43F-795A117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24D-D294-4683-B39F-45D4B1C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297-D56C-46A6-AB77-E5584857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888-DE77-48EA-B1EC-5B7DAA9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FE6-E32F-472B-84B0-DAFA287E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EB1-B550-414A-9AA3-9B084177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1649-1702-49A1-BB6B-7624C5A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F3C-57A7-4E8A-8DEE-2B83AFA2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82FD-EE8E-4A03-B6E2-2E89849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D9EB-C6BD-411E-9ED7-DFFE876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310-65CB-42DD-B6AC-7317211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2A6-BAAC-4663-B721-CE04153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A260-6159-42F2-A91D-8270A492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2DB-993E-4729-B63B-1097559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BE86-5472-4586-BAFD-1F50E70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73DA-76CD-4D9A-BC30-7B977DA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A70-5D7D-4AAA-8A14-D70590C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CB7-FD9D-4CA9-861B-E298D03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8BA-6E7D-4647-A7CB-804C444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326-ABD7-4C9F-8807-C1C1CBF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4A4-B12B-430B-916F-077590A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FE3-3AA2-4803-A67F-9EFBC50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5BA-AF16-4E5A-B4AD-A1F0AB8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CE0-2834-42F9-9750-8C2A8DD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483C-C770-4BA9-BAB2-A02EB40131F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B911EFB-8062-422C-B1EE-4C180EAD167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5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538-CCEE-4C3A-9A3D-19691FAF0C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93080" y="144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eigh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485-AC41-45CF-988E-BC7672BBEDDA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88E33004-EF44-4FBF-A517-AFB1CC624D13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EE0-9447-47D3-BDAD-248D4E63651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64E-5A34-4086-A866-9A100301FE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23FA6-6456-4FEF-A560-AEDA2526CBD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6121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匹配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边独立集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与匹配数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边独立数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独立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各边均不相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大匹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不能再加其他边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大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边数最多的匹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匹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最大匹配中的边数，记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1600" y="580716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图中各图的匹配数依次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 3, 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82087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87B-27E3-4F12-A6A2-7A6557D753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BE93A-B6A3-45A5-B41C-F838548B155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41200" y="1290600"/>
          <a:ext cx="11228400" cy="75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290600"/>
                    <a:ext cx="11228400" cy="75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关于匹配中的其他概念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被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饱和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边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非饱和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边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完美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饱和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交错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交替取边构成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路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可增广交错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起、终点都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饱和点的交错路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交错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边交替出现构成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920" y="609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图中，只有第一个图存在完美匹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662472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A53-EAE2-4A42-88BE-8D66CD5A66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206E1-1178-413B-8837-4186D2D2B795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可增广路径及交错圈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835344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红色边在匹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绿色边不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则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两条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径均为可增广的交错路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全不是可增广的交错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是一个交错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难看出，可增广交错路径中，不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边比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一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错圈一定为偶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9640" y="1125360"/>
            <a:ext cx="8136000" cy="2522160"/>
            <a:chOff x="539640" y="1125360"/>
            <a:chExt cx="8136000" cy="2522160"/>
          </a:xfrm>
        </p:grpSpPr>
        <p:sp>
          <p:nvSpPr>
            <p:cNvPr id="166" name=""/>
            <p:cNvSpPr/>
            <p:nvPr/>
          </p:nvSpPr>
          <p:spPr>
            <a:xfrm>
              <a:off x="1069920" y="3187800"/>
              <a:ext cx="76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  (2)                                  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39640" y="1125360"/>
              <a:ext cx="8099280" cy="2127600"/>
              <a:chOff x="539640" y="1125360"/>
              <a:chExt cx="8099280" cy="212760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77213" t="17670" r="0" b="30126"/>
              <a:stretch/>
            </p:blipFill>
            <p:spPr>
              <a:xfrm>
                <a:off x="6372000" y="1125360"/>
                <a:ext cx="2266920" cy="20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0" t="17670" r="72631" b="30126"/>
              <a:stretch/>
            </p:blipFill>
            <p:spPr>
              <a:xfrm>
                <a:off x="539640" y="1197000"/>
                <a:ext cx="2663640" cy="20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3"/>
              <a:srcRect l="35708" t="17670" r="33613" b="30126"/>
              <a:stretch/>
            </p:blipFill>
            <p:spPr>
              <a:xfrm>
                <a:off x="3349440" y="1197000"/>
                <a:ext cx="2878200" cy="2055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BDA-75C1-4070-9818-F8FE8125DB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5FDA-79F4-45BF-ADA0-506F68A803C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最大匹配与最小边覆盖之间关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孤立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最大匹配，对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饱和点均取一条与其关联的边，组成边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最小边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最小边覆盖；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相邻的边就移去其中的一条，设移去的边集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最大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边覆盖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匹配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见教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A50-0C83-4375-81FC-6510AFCC9C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FE9F6-EA2E-402C-AA10-EB0A589FE3A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推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无孤立顶点的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匹配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覆盖，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等号成立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完美匹配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最小边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，红边为匹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匹配是最大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红边与绿边组成最小边覆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之，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边覆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最大匹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58920" y="2492280"/>
            <a:ext cx="6410160" cy="2404440"/>
            <a:chOff x="1258920" y="2492280"/>
            <a:chExt cx="6410160" cy="2404440"/>
          </a:xfrm>
        </p:grpSpPr>
        <p:grpSp>
          <p:nvGrpSpPr>
            <p:cNvPr id="177" name=""/>
            <p:cNvGrpSpPr/>
            <p:nvPr/>
          </p:nvGrpSpPr>
          <p:grpSpPr>
            <a:xfrm>
              <a:off x="1258920" y="2492280"/>
              <a:ext cx="6410160" cy="1924200"/>
              <a:chOff x="1258920" y="2492280"/>
              <a:chExt cx="6410160" cy="192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rcRect l="56564" t="13679" r="0" b="34535"/>
              <a:stretch/>
            </p:blipFill>
            <p:spPr>
              <a:xfrm>
                <a:off x="4572000" y="2563920"/>
                <a:ext cx="3097080" cy="18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2"/>
              <a:srcRect l="0" t="13679" r="55568" b="34535"/>
              <a:stretch/>
            </p:blipFill>
            <p:spPr>
              <a:xfrm>
                <a:off x="1258920" y="2492280"/>
                <a:ext cx="3168720" cy="185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/>
            <p:nvPr/>
          </p:nvSpPr>
          <p:spPr>
            <a:xfrm>
              <a:off x="1913400" y="4437000"/>
              <a:ext cx="41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      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A22-CC22-42AE-B893-FE3D24EE38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A6FC8-7FBF-4117-9A1D-667759F747E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最大匹配判别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6200" y="2421000"/>
            <a:ext cx="8209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要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含可增广交错路径，可生成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大的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为不含可增广路径的匹配和最大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，只要证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=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必要性知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含可增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错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结论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交错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相等，且所有交错路径上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边数也相等（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无可增广路径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97000"/>
            <a:ext cx="813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最大匹配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不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可增广交错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BF3-BA11-4D4E-97CC-C2244478E3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D8A0A-2508-442B-99F2-CD8952E1694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.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二部图中的匹配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二部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匹配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顶点全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饱和点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完备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配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=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完备匹配变成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完美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41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，红边组成各图的一个匹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为完备匹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匹配不是完备的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完备匹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匹配是完备的，也是完美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4360" y="2814480"/>
            <a:ext cx="7919640" cy="2247480"/>
            <a:chOff x="684360" y="2814480"/>
            <a:chExt cx="7919640" cy="2247480"/>
          </a:xfrm>
        </p:grpSpPr>
        <p:grpSp>
          <p:nvGrpSpPr>
            <p:cNvPr id="188" name=""/>
            <p:cNvGrpSpPr/>
            <p:nvPr/>
          </p:nvGrpSpPr>
          <p:grpSpPr>
            <a:xfrm>
              <a:off x="684360" y="2814480"/>
              <a:ext cx="7919640" cy="2054160"/>
              <a:chOff x="684360" y="2814480"/>
              <a:chExt cx="7919640" cy="205416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rcRect l="76287" t="7156" r="0" b="23627"/>
              <a:stretch/>
            </p:blipFill>
            <p:spPr>
              <a:xfrm>
                <a:off x="6365880" y="2814480"/>
                <a:ext cx="2238120" cy="198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rcRect l="0" t="7156" r="71534" b="23627"/>
              <a:stretch/>
            </p:blipFill>
            <p:spPr>
              <a:xfrm>
                <a:off x="684360" y="2885760"/>
                <a:ext cx="2685600" cy="198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3"/>
              <a:srcRect l="37593" t="7156" r="31749" b="23627"/>
              <a:stretch/>
            </p:blipFill>
            <p:spPr>
              <a:xfrm>
                <a:off x="3301920" y="2814480"/>
                <a:ext cx="2892240" cy="198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"/>
            <p:cNvSpPr/>
            <p:nvPr/>
          </p:nvSpPr>
          <p:spPr>
            <a:xfrm>
              <a:off x="1215360" y="4602240"/>
              <a:ext cx="71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       (2)                                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AFB-E213-47E3-BAEA-14B1D49F05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45DB7-BB76-4494-8837-A9E0F0F9C58F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Hall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Hall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二部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完备匹配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,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至少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相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定理中的条件常称为“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相异性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立刻可知，上图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没有完备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二部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个顶点至少关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，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个顶点至多关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完备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要点：满足相异性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条件称为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CFE-CC07-49C8-BB3D-A710BDAB96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97F3D-F7AE-433D-B932-8B84A66BC92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一个应用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课题组要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中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分别到上海、广州、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港去开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想去上海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想去广州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表示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广州或香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该课题组在满足个人要求的条件下，共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种派遣方案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924280"/>
            <a:ext cx="80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用二部图中的匹配理论解本题方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上海、广州和香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9910" r="0" b="6463"/>
          <a:stretch/>
        </p:blipFill>
        <p:spPr>
          <a:xfrm>
            <a:off x="4284720" y="4221000"/>
            <a:ext cx="3960720" cy="2221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4797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相异性条件，因而可派遣，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派遣方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给出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108-CB5C-446F-9F4A-EDEFF085E5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E2E4-5C2C-4DB0-B008-28872EF116B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.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点着色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9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种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点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给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每个顶点涂上一种颜色，使相邻顶点具有不同颜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着色的）——能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色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着色的，但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着色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C17-FA4F-480C-96CD-4012914D08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B85C-7A64-467D-83DD-8F83C1FBEF04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第十八章支配集、覆盖集、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独立集、匹配与着色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配集、点覆盖集与点独立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覆盖与匹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部图中的匹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图着色与平面图的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728-AC11-4604-899E-F79F5DF03D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4DA95-FB11-4D55-98F8-F770CA92BE9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关于顶点着色的几个简单结果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零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奇圈或奇阶轮图，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阶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，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集非空，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二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58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述各图中，色数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3630600"/>
            <a:ext cx="835344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D12-3D53-4083-86F8-8C9B621D57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27709-5354-4133-9791-8546983B89F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550800" y="1922400"/>
          <a:ext cx="11363400" cy="75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922400"/>
                    <a:ext cx="11363400" cy="75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色数的上界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任意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均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阶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归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连通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也不是奇数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圈，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为布鲁克斯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AB4-EF96-4108-B967-34968CB394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CD6B5-4271-4056-BC57-48A471E5934E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8.5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地图着色与平面图的点着色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848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连通无桥平面图（嵌入）与所有的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国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地图的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国家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相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它们的边界至少有一条公共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516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上图的地图中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国家，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3,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24976"/>
          <a:stretch/>
        </p:blipFill>
        <p:spPr>
          <a:xfrm>
            <a:off x="826920" y="3141720"/>
            <a:ext cx="676944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48F-C2A5-40B7-926F-9A6505CAD0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A4B38-9469-4341-A8A7-1CBB9058B2EA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地图的面着色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每个国家涂上一种颜色，相邻国家涂不同颜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可着色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能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色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少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357720"/>
            <a:ext cx="835344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图的面着色转化成对偶图的点着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可着色的当且仅当它的对偶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可着色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简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5121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色定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何平面图都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着色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剩下的大问题：四色猜想是否为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347-1964-46A7-B939-DA90D97AD9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FFB22-892E-44A0-B77A-028D4EAA683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85800" y="1317600"/>
          <a:ext cx="10918800" cy="735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17600"/>
                    <a:ext cx="10918800" cy="73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.6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边着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无环无向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1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着色——每条边着一种颜色，相邻的边不同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可着色的——能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色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少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99736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(Viz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简单平面图，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+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4149720"/>
            <a:ext cx="8064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偶圈边色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奇圈边色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部图的边色数等于最大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奇数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时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数时，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E1B-D0E4-4030-8447-D0AF398234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55C18-C83C-471E-AA57-2094F860C76D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第十八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、点覆盖集、点独立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覆盖集、匹配（边独立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部图中的完备匹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的点着色、边着色、地图着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要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刻理解与支配集、点覆盖集、边覆盖集、点独立集、边独立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点着色、边着色、面着色、色数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求阶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或特殊图的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用二部图中匹配的理论解简单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并记住地图面着色与它的对偶图点着色之间的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用点色数及边色数解决一些实际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133-ABFE-4E7C-A045-161CB4843B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3D2A0-0464-43E3-A145-86F4AE78D42F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4005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不是最小支配集的极小支配集吗？求支配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不是最小点覆盖集的极小点覆盖集吗？求点覆盖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不是最大点独立集的极大点独立集吗？求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完美匹配吗？为什么？求匹配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边覆盖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32565" t="0" r="0" b="38333"/>
          <a:stretch/>
        </p:blipFill>
        <p:spPr>
          <a:xfrm>
            <a:off x="2700360" y="1413000"/>
            <a:ext cx="4897440" cy="244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下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891-FDBF-4031-B74C-557D55E958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B0B19-385A-462E-B115-BA9D24477267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极小支配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最后一个不是最小的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极小点覆盖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前者是最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极大点独立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后者是最大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能有完美匹配，因为它的阶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奇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匹配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可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09C-E52A-41B4-97EA-6206E05155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F8A3A-FB88-4AC8-ABCB-64771F783D7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734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彼得松图如下图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57915" t="0" r="0" b="0"/>
          <a:stretch/>
        </p:blipFill>
        <p:spPr>
          <a:xfrm>
            <a:off x="2195640" y="1916280"/>
            <a:ext cx="3384360" cy="2608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640" y="5157720"/>
            <a:ext cx="7993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图上给出一个最大点独立集和一个最大匹配，从而求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3DE-6599-4CD0-88E3-275581C22E3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9D91C-A648-45A5-B6A2-2933F2FD820D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72160" y="1086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4686840"/>
            <a:ext cx="799128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观察法在上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给出一个点独立集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给出了一个最大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得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论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5194" t="0" r="0" b="0"/>
          <a:stretch/>
        </p:blipFill>
        <p:spPr>
          <a:xfrm>
            <a:off x="1547640" y="1773360"/>
            <a:ext cx="60850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CF0-8EBA-4BA7-9C52-1B804F022AE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80BBE-3468-4251-88AB-F6291B1FEA80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8.1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支配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集、点覆盖集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与点独立集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配集与支配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小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真子集不是支配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小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元素最少的支配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支配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支配集中的元素个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3E1-D099-4DE3-87F3-B39654D7F7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F939-5EBE-4170-BB29-45CD1FB1D5AC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本题应用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推论（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较为方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任何两个顶点均相邻，因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故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数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完美匹配，所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奇数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不可能有完美匹配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于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完美匹配，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完美匹配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最大匹配，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              ，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099080"/>
            <a:ext cx="79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求无向完全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的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16720" y="3429000"/>
                <a:ext cx="333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627280" y="3933720"/>
                <a:ext cx="273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028000" y="4869000"/>
                <a:ext cx="86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236000" y="5300640"/>
                <a:ext cx="93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971640" y="5734080"/>
                <a:ext cx="2232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2FD-798A-4094-913F-DC87B4DD3D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6A817-F954-4550-85C9-2C620F0695D0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二部图的定义及题中参数的定义，不难看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34200" y="1242000"/>
            <a:ext cx="546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求完全二部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BC0-0277-416D-A7B4-92B8171C9A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F6B62-244F-406F-A491-28F0B3B519B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图的点色数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色数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及面色数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9260" t="6511" r="-4878" b="-4678"/>
          <a:stretch/>
        </p:blipFill>
        <p:spPr>
          <a:xfrm>
            <a:off x="5349960" y="2276640"/>
            <a:ext cx="3543120" cy="3190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68360" y="2365560"/>
            <a:ext cx="4751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含奇圈，所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由布鲁克斯定理知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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容易证明不能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涂色：由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彼此相邻，因而至少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涂色，设用颜色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时最少还用这三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色，而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只能用颜色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样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能用另一种颜色，比如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涂色，所以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D63-3A6F-42AC-B39C-9F6922C2BC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1C3D4-4BD6-4F22-939A-505C096A2225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维津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z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定理可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但可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色，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32570" t="18076" r="0" b="0"/>
          <a:stretch/>
        </p:blipFill>
        <p:spPr>
          <a:xfrm>
            <a:off x="2268360" y="2492280"/>
            <a:ext cx="4104000" cy="35388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6A5-8EDF-4C42-AE57-8AF6FE6067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29608-E271-4C2C-A6C4-C47AC079970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320880" y="5373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15800" y="5366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2668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知图的对偶图为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，容易证明它的点色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色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84360" y="2414520"/>
            <a:ext cx="7054560" cy="3582360"/>
            <a:chOff x="684360" y="2414520"/>
            <a:chExt cx="7054560" cy="358236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rcRect l="32564" t="0" r="3538" b="11141"/>
            <a:stretch/>
          </p:blipFill>
          <p:spPr>
            <a:xfrm>
              <a:off x="684360" y="2492280"/>
              <a:ext cx="3600360" cy="30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rcRect l="33179" t="17155" r="0" b="0"/>
            <a:stretch/>
          </p:blipFill>
          <p:spPr>
            <a:xfrm>
              <a:off x="4500720" y="2414520"/>
              <a:ext cx="323820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196000" y="5537160"/>
              <a:ext cx="42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       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664-3448-403F-9F46-B7C85E68B49A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0898A-2166-4921-8AA1-4E985DB9E4A1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1280" y="1340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则的哈密顿图，证明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 用维津定理及握手定理即可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维津定理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+1 = 4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只需证可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哈密顿回路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用两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色可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不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边彼此不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用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给它们着色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434-4D4E-405F-8144-8560C13E0A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ADB5B-E64A-4949-8A73-E7EAA54D1880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校计算机系三年级学生在本学期共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选修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…, 6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的学生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,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3,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课至少几天能考完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551-8976-4769-AA1C-D2B416D481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A0A13-B160-4176-B100-1207B82200A1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14920" y="1124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535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已知条件做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种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着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同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相邻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学生既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同时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最少的考试时间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见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284720" y="1916280"/>
          <a:ext cx="4427640" cy="41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16280"/>
                    <a:ext cx="442764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281-014D-4A98-9944-DC4E0A67B6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47F94-4A4D-4BBF-8C2A-296D320A112E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极小与最小支配集之间的关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支配集为极小支配集，但反之不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外，极小支配集与最小支配集都可能不惟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易知完全图、轮图、星形图的支配数均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8200" y="5411880"/>
            <a:ext cx="7508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,(2),(3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彼得松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支配数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各找出一个最小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55640" y="2708280"/>
            <a:ext cx="7343280" cy="2496600"/>
            <a:chOff x="755640" y="2708280"/>
            <a:chExt cx="7343280" cy="2496600"/>
          </a:xfrm>
        </p:grpSpPr>
        <p:grpSp>
          <p:nvGrpSpPr>
            <p:cNvPr id="118" name=""/>
            <p:cNvGrpSpPr/>
            <p:nvPr/>
          </p:nvGrpSpPr>
          <p:grpSpPr>
            <a:xfrm>
              <a:off x="755640" y="2708280"/>
              <a:ext cx="7343280" cy="2125440"/>
              <a:chOff x="755640" y="2708280"/>
              <a:chExt cx="7343280" cy="2125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rcRect l="78080" t="0" r="0" b="0"/>
              <a:stretch/>
            </p:blipFill>
            <p:spPr>
              <a:xfrm>
                <a:off x="5940360" y="2708280"/>
                <a:ext cx="2158560" cy="20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rcRect l="0" t="0" r="72823" b="0"/>
              <a:stretch/>
            </p:blipFill>
            <p:spPr>
              <a:xfrm>
                <a:off x="755640" y="2923920"/>
                <a:ext cx="2520720" cy="19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3"/>
              <a:srcRect l="41234" t="0" r="35108" b="0"/>
              <a:stretch/>
            </p:blipFill>
            <p:spPr>
              <a:xfrm>
                <a:off x="3420720" y="2852640"/>
                <a:ext cx="2160360" cy="187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" name=""/>
            <p:cNvSpPr/>
            <p:nvPr/>
          </p:nvSpPr>
          <p:spPr>
            <a:xfrm>
              <a:off x="1524600" y="4745160"/>
              <a:ext cx="624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(2)                             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FE6-4C0E-4DA6-8397-25430FC644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055FA-740A-4F2D-83D4-E5C98CA6D7D3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点独立集与点独立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点独立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顶点彼此不相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大点独立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再加入任何顶点就不是点独立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大点独立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元素最多的点独立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点独立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最大点独立集中的元素个数，记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60674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图中，点独立数依次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2, 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5640" y="3527280"/>
            <a:ext cx="7343280" cy="2496600"/>
            <a:chOff x="755640" y="3527280"/>
            <a:chExt cx="7343280" cy="2496600"/>
          </a:xfrm>
        </p:grpSpPr>
        <p:grpSp>
          <p:nvGrpSpPr>
            <p:cNvPr id="127" name=""/>
            <p:cNvGrpSpPr/>
            <p:nvPr/>
          </p:nvGrpSpPr>
          <p:grpSpPr>
            <a:xfrm>
              <a:off x="755640" y="3527280"/>
              <a:ext cx="7343280" cy="2125440"/>
              <a:chOff x="755640" y="3527280"/>
              <a:chExt cx="7343280" cy="21254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1"/>
              <a:srcRect l="78080" t="0" r="0" b="0"/>
              <a:stretch/>
            </p:blipFill>
            <p:spPr>
              <a:xfrm>
                <a:off x="5940360" y="3527280"/>
                <a:ext cx="2158560" cy="20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2"/>
              <a:srcRect l="0" t="0" r="72823" b="0"/>
              <a:stretch/>
            </p:blipFill>
            <p:spPr>
              <a:xfrm>
                <a:off x="755640" y="3742920"/>
                <a:ext cx="2520720" cy="19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3"/>
              <a:srcRect l="41234" t="0" r="35108" b="0"/>
              <a:stretch/>
            </p:blipFill>
            <p:spPr>
              <a:xfrm>
                <a:off x="3420720" y="3671640"/>
                <a:ext cx="2160360" cy="187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1524600" y="5564160"/>
              <a:ext cx="624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(2)                             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A3B-0D1B-4747-8906-6320C8340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0A5A-B9F7-4F27-989B-09C6350F4DD7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极大独立集与极小支配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孤立点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极大点独立集都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小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492280"/>
            <a:ext cx="7848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极大点独立集，证明它也是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必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否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何顶点相邻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仍为点独立集，这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极大点独立集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极小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需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真子集不是支配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300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别注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逆不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BA1-F4C6-4169-B3FE-5B4B2B6A47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6D764-9226-4B5A-B3FD-FB978067212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点覆盖集与点覆盖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07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点覆盖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小点覆盖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任何真子集都不是点覆盖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小点覆盖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最小点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数最少的点覆盖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点覆盖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点覆盖的元素个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6624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，点覆盖数依次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26920" y="3573360"/>
            <a:ext cx="7129800" cy="1994040"/>
            <a:chOff x="826920" y="3573360"/>
            <a:chExt cx="7129800" cy="1994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77189" t="0" r="0" b="0"/>
            <a:stretch/>
          </p:blipFill>
          <p:spPr>
            <a:xfrm>
              <a:off x="5867280" y="3573360"/>
              <a:ext cx="208944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rcRect l="0" t="0" r="74560" b="0"/>
            <a:stretch/>
          </p:blipFill>
          <p:spPr>
            <a:xfrm>
              <a:off x="826920" y="3645000"/>
              <a:ext cx="2376720" cy="19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rcRect l="41212" t="0" r="33360" b="0"/>
            <a:stretch/>
          </p:blipFill>
          <p:spPr>
            <a:xfrm>
              <a:off x="3492360" y="3645000"/>
              <a:ext cx="2303640" cy="18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3F3-5455-44FC-8794-A82C10B15F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C8B21-AFF5-4B87-8B09-E93556EB605E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点覆盖集与点独立集的关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08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孤立点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点覆盖当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仅当为点独立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42100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必要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邻，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顶点不能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矛盾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是点独立集，因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端点至少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398840"/>
            <a:ext cx="8064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无孤立顶点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极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覆盖当且仅当是极大（最大）点独立集，从而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DAA-5306-402C-B0E3-E7A42FD2DF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E271-CAA6-48ED-8A21-68C419C8C82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11280" y="1125360"/>
          <a:ext cx="10879200" cy="73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10879200" cy="73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.2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边覆盖集与匹配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覆盖集与边覆盖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8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边覆盖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小边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真子集不是边覆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小边覆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边数最少的边覆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边覆盖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边覆盖中元素个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8136000" cy="175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39560" y="5516640"/>
            <a:ext cx="33627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中各图的边覆盖数依次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 4,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各找出一个最小边覆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939-31DE-4208-AE46-DE00FB858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88457-B1A1-4242-A0BD-7AE507ECEDCB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59:32Z</dcterms:modified>
  <cp:revision>218</cp:revision>
  <dc:subject>ch1</dc:subject>
  <dc:title>lisan</dc:title>
</cp:coreProperties>
</file>